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2BE-1FB4-490C-A080-AE644398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D161-3CFB-41EE-B639-02F341A6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6F0F-042C-40BC-AB21-FD9418C4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BB67-F635-47E3-9DC5-80B60A9B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F222-D0A0-4EB5-B4DD-7B57899B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5464-61E8-4001-BD01-0F20A3D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6DD-95AB-42EB-BD96-95746F4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2E2-D2A6-4149-8C8E-F5FB277F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1010-A7B1-4CB9-B553-1F3E5C9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E0F-AF04-4156-8566-767BA151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CF49-4427-4E50-ADD7-94CD7503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0121-AAB2-4966-80D5-1F98032E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6557-9D89-45B1-B3AB-E9AFFDB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6F46-FE4F-4985-8339-B909BA42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139E-FE04-4FEE-9147-0F48A56B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BC1B3-D880-4FA3-B42E-A62F9C0B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61F9-0188-4517-B31B-E08A750DB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9B5-B8D0-4FA5-A877-354B5776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4B5-BE23-4732-BF13-D5D5EAC2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C809-D56E-40A0-A7CF-B2DB9F4B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EBB-B15E-4CEF-ADB8-9155661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BF0-C967-4C52-A358-F862E89E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3887-3EF2-4723-A063-D04604EE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C39-E156-425F-9842-8AD4FAEE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CCF-6BD7-48BC-A253-2C1BFA4439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7DD4-4624-4C80-BE7B-B18031E8B5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nbdoe</cp:lastModifiedBy>
  <dcterms:modified xsi:type="dcterms:W3CDTF">2008-02-18T20:43:06Z</dcterms:modified>
  <cp:revision>11</cp:revision>
  <dc:subject/>
  <dc:title>Chapter 2 “Cells” Section 1: “Cell Structure Pages 38 – 40</dc:title>
</cp:coreProperties>
</file>